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33B0-9FCF-4A20-964F-9F6B7BF018F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115B-0796-44E6-A7A3-D8959900B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21AA6-1FB0-418D-BFA9-CB6AEF92C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AE98-715B-47AF-B757-938E2EF15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69D3490-AF67-4433-94D5-93C3734A53C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14C19C2-7A00-4EEC-9F1C-31A379E225C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DE50A5E-BAC8-479F-8161-49C96DBA20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2AD1AB9-D37A-4487-82A0-CAF4159C9DD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A88F708-03E0-499C-8BF1-E8E3CF4E24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F20F1D3-4CDB-4E71-819D-50FBF517A6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DEDB9C8-2FAC-4162-AC6E-5C74BD7A9F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73ED281-8A19-4DA3-B9A1-20E248841B0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9871115-3C51-4684-A24D-DF2239692E6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C8CC31D-AB24-43D9-8FA1-FD0A43A7C2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A4935-37B2-4DA9-8096-AAC140CCB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7F9BA1A1-78FC-4954-85DF-70A83E5868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2D5D338-AA4E-40DE-A27C-B70F0E42EA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1D14E35-DD48-42CF-950B-538B0DDF94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0B9A226-AC9D-4ADD-9C68-9117E6E5F6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9089664-1752-4D7A-9D76-0DFBE1D0AB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79E009-37D6-444E-814D-DA3F6928CD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1305FC6-5AB4-4610-913E-566FFA19B5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E91C7E4-A7A8-436C-BBAF-5CBB2A173F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4E15BBC-92EC-4A6E-81E5-96D34F0A37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FFA35E7-194E-4248-A851-211F982D0E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9DC51-03AD-4F1B-92D2-FFD69AD57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0D9E3D1-284E-4F61-9B23-B2FA059EE1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3ADCE6-6484-4A3E-B1D1-F7274FCA39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656530-C4D2-4035-BD69-7C23C3DB35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9D7519-00AD-4705-829E-A075AE3EF6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B570A9-3D78-4500-9D63-AAFE5E0B51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3CB12A-9EA5-4F4F-899C-CF0F8858D1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DD7B2A-750B-472F-85E7-31772DB6BE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EC89F3-6C3E-4ED1-BF5A-E12ED52FA4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10FD60-C9FD-473C-8D31-29AE38817F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F6D423-C744-43E3-A138-FC6ABB7C8F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93A09-7A77-48EA-82C7-C03311CA0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93B978-2D2E-4832-8753-DA8E567C5A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42EB37-37E1-4826-83F0-8C0146FA23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85D984-7959-48DE-BF1A-802B23F463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A31FFDE-AE47-4FDE-AD49-B34A3C5CA1F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8D0850E-6BF3-4004-B95E-CB0CA5FEEA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3F70800-167A-4830-AF06-5405136845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DC78F85-93A9-4EC3-8185-8099C27328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CA71468-D2EB-4B1B-82BC-7185FF5B5F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B0CB84F-A231-4047-AC24-F1005399C1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BCA202F-D91C-4B3A-9D71-7294FBA7E2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72D0C-304A-474C-9D32-3EC79E8B3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47BFCF0-6651-42A3-B25C-026D40C72D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94B0D4A-577D-4C63-B7CA-4DC994D425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9F1326A-E015-423E-8ADD-C67E7312C9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6BD00BF-4966-4780-A525-607514986F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59459E3-20C8-4AE7-8ED4-0FA71EE470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0A8ED-56A6-4C2C-AB3D-3FC5A3CD6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83807-14A7-474F-9E66-0B0126932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00EA1-563F-48C6-992A-9876BEDA4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69101-9CF5-4FFF-BEA0-8EADF5DB5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25EF4-649E-4655-9549-945E8AA50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C1A42-9E5D-482A-B7BD-371F05FE5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94E76-CB9A-4594-BDE8-5631B4FE3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C3393-1D15-4E13-A215-8BC6A7FC7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7A68A-F604-418B-917B-9BBA23A66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049FB-D696-4A3F-98EF-7AE6AD8C1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529B7-796B-4FBC-9B20-6E454C5A0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0E0E26-BDA8-4C2A-B9B3-7F656F369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FCC5F-892F-4CAF-91FD-C3EFB0594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3D879D-4CF3-4C52-B6E4-E9DDD26A5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232E0-EC14-48A3-BCD5-CEC1E4E0BD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C16D6B-7691-4954-9379-D556A09383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D4972-2D92-497A-A9C5-F7638BC6E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AF1652-7552-4664-974A-145132096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A01363-206E-4582-959F-93E9F455C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47806-C58A-43B1-9126-CD9A352DC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FBE70-4673-4EB0-AAA3-99FD1788F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A25B2-A75E-4D21-B68A-8C852D2AF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B0F762-C0F1-40E8-B8FB-897E2E5874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193EDD-A48D-4C70-AC8A-72A76AFD17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9B8671A-4A0F-4227-93B1-28743313816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84AF092-C393-4486-99E5-8CB96E96968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6A56680-D268-4C4D-BD46-2621103D5A3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EC624-7F88-4365-88B2-CD95A3CE0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0141899-31CC-49C5-A7C4-EDBBB4EC299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61F615B-C3FC-424D-8097-2E21CAA6090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4F2ED31-7AF4-41CA-9666-356725233B7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2D8916D-C782-4B9F-9FFB-A0FAFA77768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47C913F-FBF5-41E6-ACB7-904AF0668A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C2AC40A-38C6-4315-B65F-84DC4BB0B9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28EB6CB-D31C-4A6E-A29E-64045358195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850550B-4FE6-4339-ACF3-91C5F4D9A66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83497B6-DE96-4481-B67C-EDF619DDD5B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E804F6-F9C4-4D4B-BDD7-0636D5ACC5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16AE7-21CA-4B42-AB99-D811F56AF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976BF0-4F04-465E-9184-B0E423FE2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42E24-CBFE-4D5F-B6BD-75CE8DDDD4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0F9C12-8A7A-48A8-89DB-03CFF77926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E64966-4187-496D-976C-AFFB3F4313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F2C881-8497-4A83-A910-4BE12903EB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42F04-3E77-4501-B301-DAF696DF2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6059A7-44A3-4D86-A24E-249E938C2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81AF72-ABB8-4D56-81F0-47A37A6D2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A93B5D-3044-478F-A6FA-2243006BF7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732CF0-AD76-40A0-9BC9-FDE096BAB7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901E1-3E6D-4B71-AE24-158482867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D9B7C2-B56E-45A8-B514-D7ACA0D8F8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34A66D-426C-4954-8743-7EA201F49B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A1CF29-5082-4843-9884-384D6B49F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878A3B-FC1A-49CE-8639-D26019B927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AA36F6-4854-480B-BA65-2834E7BA26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79211C-399E-49F9-A9EF-1BAE7B17F2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1B3394-A918-4441-B0C0-C112B8E10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5FE28-EF00-43CE-AE9D-641963F0A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A4594C-C2CB-41E4-82FB-61C868C9E2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95098-7282-47D6-8EE9-C94F4E048B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01C20-D786-40F4-B046-84036F33A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7BB7E-1B91-4F0B-9941-D486FD1551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B4499D-191A-4D4D-AFCE-7B6AB452D3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A9BFFC-D04C-4F73-8A0B-643DA408A6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2ED85A-D6CF-4573-907B-33D0661720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D335B9-5F5C-4572-88B0-2E5101C075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76F9DB-26C1-4AF2-B27C-AD55124B5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F83025-7092-4141-AE5D-BBCF6C6DC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ED4C2F-8B72-4B17-97B1-BD7F565BCA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508740-4CD6-4188-8BCE-94DDCA18F8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B805F2-FA00-4853-B979-D83416B9A7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8AE3B-C2E7-48AE-80C5-955C345D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327B7-CD29-4C4E-926B-C1E7D42CD2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9281EB-539B-4F51-BB32-EDDEFD3F4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0C9B18-483C-41A0-A459-0F9B313532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94756C-71B4-49D8-B4E0-C8A3947ED3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F66B91-E7B1-4913-B7F6-27334B10FF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EEB5FD-89C7-41DA-A3BB-9FDB069FB4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EFC26-E24F-445E-AE07-52C37BC0DB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6AC23D-FAA4-4598-94B4-F706430A24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932A30-501E-4023-A1A4-A1E3D4E048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C2D1A9-5ED0-4537-A699-C47A82B56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B5C6A-F9CE-4C01-A4F8-FC6A0E00B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1FD9A3-40BA-4F37-87D1-6BE1C250C6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DA644A-608C-47C6-8BA7-AD50FD3D0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14CFC-C0C1-4AC4-BFDA-58A73D4753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CAD25-DDF9-44E3-9422-2C26E7221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413A69-6D44-434A-AD2C-4351099AC6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56AF9D-3109-4413-A4EE-BB8B0E331D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C46566-769E-4C1C-BC5B-B8DE02C4D1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DA6FA2C-5F39-4806-A289-3A3A4AAE8BD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065D3D4-C31D-4884-8177-F478A0FC6A1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0A280CB-3D84-490B-B189-C1591BD1DAE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5137-9CAE-4861-8328-FC5C291C735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D379-0C7B-40F1-ACFC-210B662638D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C00F-BFC0-4356-9B3B-200DBAA7BAE1}"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22B4-1460-4546-A6B1-3BB823D75F9E}"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CEFA-2AE3-4CB4-A52E-01C738DB032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A5D4-F938-4DCA-8BAE-6C29B0CBE8C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64AE-C4B6-42DC-9A61-E9D9C95C3897}"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A22E-0D01-4AB4-8F29-59475B9FDB8A}"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D45E-4E7D-492F-A155-CA84274D66A6}"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E2EB-F3BB-48E5-B129-BD81FAEB481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FED1-592B-405B-90E3-EE0664E7CD75}"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8FF0-3FF4-4E3B-846A-A94A91C387A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304812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GROUP 4:</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HRISTINA HUDMAN</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HELSEA MARTIN</a:t>
            </a:r>
            <a:endParaRPr b="0" lang="en-US" sz="1600" spc="-1" strike="noStrike">
              <a:solidFill>
                <a:srgbClr val="000000"/>
              </a:solidFill>
              <a:latin typeface="Georgi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ARA WHITELY</a:t>
            </a:r>
            <a:endParaRPr b="0" lang="en-US" sz="1600" spc="-1" strike="noStrike">
              <a:solidFill>
                <a:srgbClr val="000000"/>
              </a:solidFill>
              <a:latin typeface="Georgia"/>
            </a:endParaRPr>
          </a:p>
        </p:txBody>
      </p:sp>
      <p:sp>
        <p:nvSpPr>
          <p:cNvPr id="614" name="PlaceHolder 2"/>
          <p:cNvSpPr>
            <a:spLocks noGrp="1"/>
          </p:cNvSpPr>
          <p:nvPr>
            <p:ph type="title"/>
          </p:nvPr>
        </p:nvSpPr>
        <p:spPr>
          <a:xfrm>
            <a:off x="685800" y="7617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d16349"/>
                </a:solidFill>
                <a:latin typeface="Georgia"/>
              </a:rPr>
              <a:t>The Way They Learn: How to Discover and Teach to your Child’s Strengths</a:t>
            </a:r>
            <a:br>
              <a:rPr sz="3800"/>
            </a:br>
            <a:r>
              <a:rPr b="0" lang="en-US" sz="3200" spc="-1" strike="noStrike">
                <a:solidFill>
                  <a:srgbClr val="d16349"/>
                </a:solidFill>
                <a:latin typeface="Georgia"/>
              </a:rPr>
              <a:t>By Cynthia Ulrich Tobias</a:t>
            </a:r>
            <a:endParaRPr b="0" lang="en-US" sz="3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9899"/>
                </a:solidFill>
                <a:latin typeface="Georgia"/>
              </a:rPr>
              <a:t>Chapter 4: The Dominant Abstract Sequential Learning Style</a:t>
            </a:r>
            <a:endParaRPr b="0" lang="en-US" sz="28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Adult:</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Must always look at all options</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Constantly evaluating their options and decisions, even after the decision has been made.</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Deliberate every aspect of their lives and look at every possibility using every resource.</a:t>
            </a:r>
            <a:endParaRPr b="0" lang="en-US" sz="1500" spc="-1" strike="noStrike">
              <a:solidFill>
                <a:srgbClr val="000000"/>
              </a:solidFill>
              <a:latin typeface="Georgia"/>
            </a:endParaRPr>
          </a:p>
          <a:p>
            <a:pPr marL="264600" indent="-26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Parent:</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Finds it difficult when children cannot explain themselves and are not being logical.</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Forgets the child is not on the same level as them and does not have the same state of mind.</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Always asks a million questions</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a:t>
            </a:r>
            <a:r>
              <a:rPr b="0" lang="en-US" sz="1500" spc="-1" strike="noStrike">
                <a:solidFill>
                  <a:srgbClr val="000000"/>
                </a:solidFill>
                <a:latin typeface="Georgia"/>
              </a:rPr>
              <a:t>Why? Who? What? When? How?”</a:t>
            </a:r>
            <a:endParaRPr b="0" lang="en-US" sz="1500" spc="-1" strike="noStrike">
              <a:solidFill>
                <a:srgbClr val="000000"/>
              </a:solidFill>
              <a:latin typeface="Georgia"/>
            </a:endParaRPr>
          </a:p>
          <a:p>
            <a:pPr marL="264600" indent="-264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As Child:</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Extremely dedicated to work</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May only choose to participate in what they are good at.</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Have a difficult time coping when they do not succeed.</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Need a great deal of time to complete assignments.</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Hold themselves to a higher standard than anyone else.</a:t>
            </a:r>
            <a:endParaRPr b="0" lang="en-US" sz="1500" spc="-1" strike="noStrike">
              <a:solidFill>
                <a:srgbClr val="000000"/>
              </a:solidFill>
              <a:latin typeface="Georgia"/>
            </a:endParaRPr>
          </a:p>
          <a:p>
            <a:pPr marL="264600" indent="-264600">
              <a:spcBef>
                <a:spcPts val="37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orgia"/>
              </a:rPr>
              <a:t>Can come across as perfectionists.</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en Commandments for Getting Along With an A.S.</a:t>
            </a:r>
            <a:endParaRPr b="0" lang="en-US" sz="30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fontScale="99000"/>
          </a:bodyPr>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ou Shal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Have specific goals when dealing with me.</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Use logic and reason.</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Listen to what I have to say.</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Give me a job, leave me alone, and let me do i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e complete and thorough.</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e deliberate.</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eep issues factual.</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Give me time to research projects for the best approach.</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Make certain I understand the purpose of the projec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on’t expect immediate response – I need time to think and research.</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Chapter 5: The Dominant Abstract Random (AR) Learning Style</a:t>
            </a:r>
            <a:endParaRPr b="0" lang="en-US" sz="3000" spc="-1" strike="noStrike">
              <a:solidFill>
                <a:srgbClr val="7b9899"/>
              </a:solidFill>
              <a:latin typeface="Georgia"/>
            </a:endParaRPr>
          </a:p>
        </p:txBody>
      </p:sp>
      <p:sp>
        <p:nvSpPr>
          <p:cNvPr id="636" name=""/>
          <p:cNvSpPr txBox="1"/>
          <p:nvPr/>
        </p:nvSpPr>
        <p:spPr>
          <a:xfrm>
            <a:off x="304560" y="1447920"/>
            <a:ext cx="8504280" cy="4572000"/>
          </a:xfrm>
          <a:prstGeom prst="rect">
            <a:avLst/>
          </a:prstGeom>
          <a:noFill/>
          <a:ln w="0">
            <a:noFill/>
          </a:ln>
        </p:spPr>
        <p:txBody>
          <a:bodyPr anchor="t">
            <a:normAutofit fontScale="95000"/>
          </a:bodyPr>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dult:</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Extremely understanding of others.</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lways considerat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o not like confrontation.</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Use both verbal and nonverbal communications.</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Very sensitiv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Want to please everyone in his or her lif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o not think personal belongings matter.</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elieve family and friends are top priority.</a:t>
            </a:r>
            <a:endParaRPr b="0" lang="en-US" sz="1200" spc="-1" strike="noStrike">
              <a:solidFill>
                <a:srgbClr val="000000"/>
              </a:solidFill>
              <a:latin typeface="Georg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Parent:</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elieve their family’s personal needs come before anything els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home life may be a little less structured because they avoid conflict and want to please their children.</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o not always implement the rules unless it is completely necessary.</a:t>
            </a:r>
            <a:endParaRPr b="0" lang="en-US" sz="1200" spc="-1" strike="noStrike">
              <a:solidFill>
                <a:srgbClr val="000000"/>
              </a:solidFill>
              <a:latin typeface="Georgia"/>
            </a:endParaRPr>
          </a:p>
          <a:p>
            <a:pPr marL="259200" indent="-259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hild:</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oughful</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nstantly doing things for others</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aring</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ensitiv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ppreciative</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times may feel hurt if peers or adults do not pay special attention to them or do not notice changes in their lives</a:t>
            </a:r>
            <a:endParaRPr b="0" lang="en-US" sz="1200" spc="-1" strike="noStrike">
              <a:solidFill>
                <a:srgbClr val="000000"/>
              </a:solidFill>
              <a:latin typeface="Georgia"/>
            </a:endParaRPr>
          </a:p>
          <a:p>
            <a:pPr marL="259200" indent="-259200">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Need support and confirmation from others and need to feel wanted.</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en Commandments for Getting Along with ARs</a:t>
            </a:r>
            <a:endParaRPr b="0" lang="en-US" sz="30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fontScale="99000"/>
          </a:bodyPr>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ou Shal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Give me the opportunity to help others.</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Give me feedback (positive/negative)-where do I stand?</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Not be so serious</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Not nit-pick</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Remember, I will get things done – even if it’s not your way.</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on’t put me in the middle of conflict.</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Allow me to be spontaneous.</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Show appreciation.</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on’t mistake a happy exterior for lack of intelligence</a:t>
            </a:r>
            <a:endParaRPr b="0" lang="en-US" sz="2300" spc="-1" strike="noStrike">
              <a:solidFill>
                <a:srgbClr val="000000"/>
              </a:solidFill>
              <a:latin typeface="Georgia"/>
            </a:endParaRPr>
          </a:p>
          <a:p>
            <a:pPr marL="270000" indent="-27000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now that not all is written in stone.</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Chapter 6: The Dominant Concrete Random (CR) Learning Style</a:t>
            </a:r>
            <a:endParaRPr b="0" lang="en-US" sz="3000" spc="-1" strike="noStrike">
              <a:solidFill>
                <a:srgbClr val="7b9899"/>
              </a:solidFill>
              <a:latin typeface="Georgia"/>
            </a:endParaRPr>
          </a:p>
        </p:txBody>
      </p:sp>
      <p:sp>
        <p:nvSpPr>
          <p:cNvPr id="640" name=""/>
          <p:cNvSpPr txBox="1"/>
          <p:nvPr/>
        </p:nvSpPr>
        <p:spPr>
          <a:xfrm>
            <a:off x="301320" y="1527120"/>
            <a:ext cx="8504280" cy="4572000"/>
          </a:xfrm>
          <a:prstGeom prst="rect">
            <a:avLst/>
          </a:prstGeom>
          <a:noFill/>
          <a:ln w="0">
            <a:noFill/>
          </a:ln>
        </p:spPr>
        <p:txBody>
          <a:bodyPr anchor="t">
            <a:normAutofit fontScale="97000"/>
          </a:bodyPr>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dul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urious and very unpredictable in every aspect of their lives</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ake it a point not to follow the rules and to be differen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an be told time and time again that something will not work but will not believe it unless they experience it for themselves</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oal is to stand out and to be different</a:t>
            </a:r>
            <a:endParaRPr b="0" lang="en-US" sz="1600" spc="-1" strike="noStrike">
              <a:solidFill>
                <a:srgbClr val="000000"/>
              </a:solidFill>
              <a:latin typeface="Georg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aren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Stubborn and passionate about their beliefs</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ost of the time, these parents are so passionate, they will not give in during an argumen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volved in their children’s lives and stay aware of what is going on.</a:t>
            </a:r>
            <a:endParaRPr b="0" lang="en-US" sz="1600" spc="-1" strike="noStrike">
              <a:solidFill>
                <a:srgbClr val="000000"/>
              </a:solidFill>
              <a:latin typeface="Georgia"/>
            </a:endParaRPr>
          </a:p>
          <a:p>
            <a:pPr marL="264600" indent="-264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Very imaginative</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quisitive</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oes not like school, and it can be difficult at times to keep them interested in assignments</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dults have to be careful how they talk about CRs because these children have a tendency to twist words around to their own benefit</a:t>
            </a:r>
            <a:endParaRPr b="0" lang="en-US" sz="1600" spc="-1" strike="noStrike">
              <a:solidFill>
                <a:srgbClr val="000000"/>
              </a:solidFill>
              <a:latin typeface="Georgia"/>
            </a:endParaRPr>
          </a:p>
          <a:p>
            <a:pPr marL="264600" indent="-264600">
              <a:lnSpc>
                <a:spcPct val="8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Have a difficult time adjusting to a structured environment and daily routine because they have such a free spirit.</a:t>
            </a:r>
            <a:endParaRPr b="0" lang="en-US" sz="1600" spc="-1" strike="noStrike">
              <a:solidFill>
                <a:srgbClr val="000000"/>
              </a:solidFill>
              <a:latin typeface="Georgia"/>
            </a:endParaRPr>
          </a:p>
          <a:p>
            <a:pPr marL="264600" indent="-264600">
              <a:lnSpc>
                <a:spcPct val="80000"/>
              </a:lnSpc>
              <a:spcBef>
                <a:spcPts val="1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264600" indent="-264600">
              <a:lnSpc>
                <a:spcPct val="80000"/>
              </a:lnSpc>
              <a:spcBef>
                <a:spcPts val="1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Ten Commandments for Getting Along with a CR</a:t>
            </a:r>
            <a:endParaRPr b="0" lang="en-US" sz="3000" spc="-1" strike="noStrike">
              <a:solidFill>
                <a:srgbClr val="7b9899"/>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hou Shalt:</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ell me “what” not “how”</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Point me in the right direction, then let me go.</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e flexible</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Tell me what I did right, not what I did wrong</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now your limits – then push them</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Don’t be threatened by enthusiasm</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Be open to change</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Have a sense of humor</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Keep me involved (we need responsibility and input)</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Georgia"/>
              </a:rPr>
              <a:t>Why do we need then?</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7: How do we Concentrate?</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alt with the different ways people concentrat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parents can help their children and identify those different preferenc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vironmental Preferences</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ise</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ighting</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emperature</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Food</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Location</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Important point: </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llow children  to explore different studying environments</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right studying situation is the one that works best for the individual in question</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8: How do we Remember?</a:t>
            </a:r>
            <a:endParaRPr b="0" lang="en-US" sz="3300" spc="-1" strike="noStrike">
              <a:solidFill>
                <a:srgbClr val="7b9899"/>
              </a:solidFill>
              <a:latin typeface="Georgia"/>
            </a:endParaRPr>
          </a:p>
        </p:txBody>
      </p:sp>
      <p:sp>
        <p:nvSpPr>
          <p:cNvPr id="64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use different combinations of our 5 senses called our sensory percep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3 different ways people remember things called modalit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dalit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uditor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isual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inestheti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uditory Learners Learn by…</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stening to verbal instruct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rming sounds of word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ding alou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lking to themselv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peating instructions or command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tting what they are learning to some rhythm (song, poem, saying, et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1: What is a Learning Style?</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eneral Guidelines for Identifying Learning Styles:</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bserve behavior patterns</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sten to how a person communicates so that you understand how to speak to them</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eriment to see what works and what does not work</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cus on strengths rather than weakness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Visual Learners Learn by…</a:t>
            </a:r>
            <a:endParaRPr b="0" lang="en-US" sz="3300" spc="-1" strike="noStrike">
              <a:solidFill>
                <a:srgbClr val="7b9899"/>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eing and watching</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sing strong visual associations</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icturing what they are learning, mentally</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centrating on an image for each concept</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raw out an image</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sual Children:</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re often accused of daydreaming or being lost in thought</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uld use brightly colored folders or notebooks for organization</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Kinesthetic Learners Learn by:</a:t>
            </a:r>
            <a:endParaRPr b="0" lang="en-US" sz="3300" spc="-1" strike="noStrike">
              <a:solidFill>
                <a:srgbClr val="7b9899"/>
              </a:solidFill>
              <a:latin typeface="Georgia"/>
            </a:endParaRPr>
          </a:p>
        </p:txBody>
      </p:sp>
      <p:sp>
        <p:nvSpPr>
          <p:cNvPr id="654"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coming physically involved</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tually doing something with what’s being learned</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t motion to what they’re learning</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inesthetic children:</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ed multiple breaks</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e often accused of being “fidgety” or a “wiggle worm”</a:t>
            </a: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mportant point: We can all learn but it comes to us in different way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9: How Do We Understand?</a:t>
            </a:r>
            <a:endParaRPr b="0" lang="en-US" sz="3300" spc="-1" strike="noStrike">
              <a:solidFill>
                <a:srgbClr val="7b9899"/>
              </a:solidFill>
              <a:latin typeface="Georgia"/>
            </a:endParaRPr>
          </a:p>
        </p:txBody>
      </p:sp>
      <p:sp>
        <p:nvSpPr>
          <p:cNvPr id="65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ways people understand what we have learned or what we have been taugh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ch person takes in information differently which effects how we perceive the events experienc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lobal or Analytica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2 ways people understand informa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lobal</a:t>
            </a:r>
            <a:endParaRPr b="0" lang="en-US" sz="3300" spc="-1" strike="noStrike">
              <a:solidFill>
                <a:srgbClr val="7b9899"/>
              </a:solidFill>
              <a:latin typeface="Georgia"/>
            </a:endParaRPr>
          </a:p>
        </p:txBody>
      </p:sp>
      <p:sp>
        <p:nvSpPr>
          <p:cNvPr id="65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verall pictur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on’t worry about the detail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n see many possibilit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od at working in group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od at seeing relationship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of at reading body languag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nalytical</a:t>
            </a:r>
            <a:endParaRPr b="0" lang="en-US" sz="3300" spc="-1" strike="noStrike">
              <a:solidFill>
                <a:srgbClr val="7b9899"/>
              </a:solidFill>
              <a:latin typeface="Georgia"/>
            </a:endParaRPr>
          </a:p>
        </p:txBody>
      </p:sp>
      <p:sp>
        <p:nvSpPr>
          <p:cNvPr id="660"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rganized</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tail oriented</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ke doing tasks in a step-by-step manner</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ke to get things in on time</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9200" indent="-2592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ortant Point:</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veryone has their own way of taking in information, so find what works for you or the child in question</a:t>
            </a:r>
            <a:endParaRPr b="0" lang="en-US" sz="2700" spc="-1" strike="noStrike">
              <a:solidFill>
                <a:srgbClr val="000000"/>
              </a:solidFill>
              <a:latin typeface="Georgia"/>
            </a:endParaRPr>
          </a:p>
          <a:p>
            <a:pPr marL="259200" indent="-2592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are all taking in information different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04920" y="38088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10: How Many Ways Can We Be Smart?</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b9899"/>
                </a:solidFill>
                <a:latin typeface="Georgia"/>
              </a:rPr>
              <a:t>Gardner’s Seven Multiple Intelligences</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inguistic</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gical-mathematical</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atial</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usical</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odily-kinesthetic</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erpersonal</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rapersona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11: Putting It All Together</a:t>
            </a:r>
            <a:endParaRPr b="0" lang="en-US" sz="3300" spc="-1" strike="noStrike">
              <a:solidFill>
                <a:srgbClr val="7b9899"/>
              </a:solidFill>
              <a:latin typeface="Georgia"/>
            </a:endParaRPr>
          </a:p>
        </p:txBody>
      </p:sp>
      <p:sp>
        <p:nvSpPr>
          <p:cNvPr id="664" name=""/>
          <p:cNvSpPr txBox="1"/>
          <p:nvPr/>
        </p:nvSpPr>
        <p:spPr>
          <a:xfrm>
            <a:off x="301320" y="1527120"/>
            <a:ext cx="8504280" cy="4572000"/>
          </a:xfrm>
          <a:prstGeom prst="rect">
            <a:avLst/>
          </a:prstGeom>
          <a:noFill/>
          <a:ln w="0">
            <a:noFill/>
          </a:ln>
        </p:spPr>
        <p:txBody>
          <a:bodyPr anchor="t">
            <a:normAutofit fontScale="93000"/>
          </a:bodyPr>
          <a:p>
            <a:pPr marL="478080" indent="-478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b9899"/>
                </a:solidFill>
                <a:latin typeface="Georgia"/>
              </a:rPr>
              <a:t>5 Stages in Understanding Learning Styles:</a:t>
            </a:r>
            <a:endParaRPr b="0" lang="en-US" sz="27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wareness – having a better understanding of yourself.</a:t>
            </a:r>
            <a:endParaRPr b="0" lang="en-US" sz="26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pposite camps – feeling your learning style is better than others</a:t>
            </a:r>
            <a:endParaRPr b="0" lang="en-US" sz="26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ppreciation – coming to appreciate opposite learning styles</a:t>
            </a:r>
            <a:endParaRPr b="0" lang="en-US" sz="26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xcuses - involves using our learning styles as excuses</a:t>
            </a:r>
            <a:endParaRPr b="0" lang="en-US" sz="2600" spc="-1" strike="noStrike">
              <a:solidFill>
                <a:srgbClr val="000000"/>
              </a:solidFill>
              <a:latin typeface="Georgia"/>
            </a:endParaRPr>
          </a:p>
          <a:p>
            <a:pPr marL="478080" indent="-478080">
              <a:spcBef>
                <a:spcPts val="64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yle Flex – trying to change our natural learning style purposely</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sight</a:t>
            </a:r>
            <a:endParaRPr b="0" lang="en-US" sz="3300" spc="-1" strike="noStrike">
              <a:solidFill>
                <a:srgbClr val="7b9899"/>
              </a:solidFill>
              <a:latin typeface="Georgia"/>
            </a:endParaRPr>
          </a:p>
        </p:txBody>
      </p:sp>
      <p:sp>
        <p:nvSpPr>
          <p:cNvPr id="666"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Learning styles can be confused with learning disabilities. Children whose learning styles do not match that of their learning environment can become frustrated. The most effective professionals look to make a balanced approach when dealing with different learning styles. It is important for us all to understand that people learn in different ways so that we can work to accommodate all learning styles. As a group of 3, we found that we do not all have the same dominant learning style. Think about how diverse the learning styles are in this classroom, this university, this state, this countr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ake-home message</a:t>
            </a:r>
            <a:endParaRPr b="0" lang="en-US" sz="3300" spc="-1" strike="noStrike">
              <a:solidFill>
                <a:srgbClr val="7b9899"/>
              </a:solidFill>
              <a:latin typeface="Georgia"/>
            </a:endParaRPr>
          </a:p>
        </p:txBody>
      </p:sp>
      <p:sp>
        <p:nvSpPr>
          <p:cNvPr id="66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ople do not learn in the same ways. It is impossible to label everyone. People are complex, and although it can be difficult, we should try to understand how different we all ar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commendations for Practice</a:t>
            </a:r>
            <a:endParaRPr b="0" lang="en-US" sz="3300" spc="-1" strike="noStrike">
              <a:solidFill>
                <a:srgbClr val="7b9899"/>
              </a:solidFill>
              <a:latin typeface="Georgia"/>
            </a:endParaRPr>
          </a:p>
        </p:txBody>
      </p:sp>
      <p:sp>
        <p:nvSpPr>
          <p:cNvPr id="67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is extremely important for teachers to understand that all humans are complex in the classroom. It can help children tremendously if the adults in their lives take the time to understand how they lear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ildren need help to succeed, and spending time and using patience to understand their students’ learning styles are the most important ways for teachers to help their student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hapter 2: What Style Are You?</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b9899"/>
                </a:solidFill>
                <a:uFillTx/>
                <a:latin typeface="Georgia"/>
              </a:rPr>
              <a:t>Gregorc’s Model of Learning Styles</a:t>
            </a:r>
            <a:endParaRPr b="0" lang="en-US" sz="28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Points of Vie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crete Perception: Information registration through the senses, what is tangi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bstract Perception: Allows what is not seen to be visualized.</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Order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quential: Characterized by a linear patter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andom: Organized in no particular sequen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crete Sequential (CS)</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Hardworking</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ventional</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ccurate</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table</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Dependable</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sistent</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Factual</a:t>
            </a:r>
            <a:endParaRPr b="0" lang="en-US" sz="2200" spc="-1" strike="noStrike">
              <a:solidFill>
                <a:srgbClr val="646b86"/>
              </a:solidFill>
              <a:latin typeface="Georgia"/>
            </a:endParaRPr>
          </a:p>
          <a:p>
            <a:pPr lvl="1" marL="731880" indent="-4572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Organized</a:t>
            </a: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bstract Sequential</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nalytic</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bjec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Knowledgeabl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orough</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uctured</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gical</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liberat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ystemati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bstract Random (AR)</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si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assionat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ercep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agina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dealistic</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timental</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ontaneous</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lexibl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ncrete Random (CR)</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Quick</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tui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rious</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listic</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rea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nova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stinctive</a:t>
            </a:r>
            <a:endParaRPr b="0" lang="en-US" sz="2700" spc="-1" strike="noStrike">
              <a:solidFill>
                <a:srgbClr val="000000"/>
              </a:solidFill>
              <a:latin typeface="Georgia"/>
            </a:endParaRPr>
          </a:p>
          <a:p>
            <a:pPr marL="272880" indent="-272880">
              <a:spcBef>
                <a:spcPts val="675"/>
              </a:spcBef>
              <a:buClr>
                <a:srgbClr val="d16349"/>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dventurou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304920" y="304920"/>
            <a:ext cx="85341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Chapter 3: Dominant Concrete Sequential Learners</a:t>
            </a:r>
            <a:endParaRPr b="0" lang="en-US" sz="3000" spc="-1" strike="noStrike">
              <a:solidFill>
                <a:srgbClr val="7b9899"/>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es things in a straightforward fashi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rents more likely to expect a yes or no response, to expect obedience without question, and to get frustrated with having to repeat themselv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ildren are more likely to be very organized, to ask for clarification repeatedly, and to thrive on consisten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ccessful in creating stability in the lives of their famili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228240" y="38088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en Commandments for Getting Along with a CS</a:t>
            </a:r>
            <a:endParaRPr b="0" lang="en-US" sz="33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fontScale="93000"/>
          </a:bodyPr>
          <a:p>
            <a:pPr marL="478080" indent="-478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ou Shalt:</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onsistent</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organized</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actice common sense</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ll your own weight</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member I have feelings, too</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ive advance notice so I can prepare myself</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instructions</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ll me what you want</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ake responsibility for your actions</a:t>
            </a:r>
            <a:endParaRPr b="0" lang="en-US" sz="2400" spc="-1" strike="noStrike">
              <a:solidFill>
                <a:srgbClr val="000000"/>
              </a:solidFill>
              <a:latin typeface="Georgia"/>
            </a:endParaRPr>
          </a:p>
          <a:p>
            <a:pPr marL="478080" indent="-478080">
              <a:spcBef>
                <a:spcPts val="601"/>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ot deal in generaliti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18:54:00Z</dcterms:created>
  <dc:creator>%USERNAME%</dc:creator>
  <dc:description/>
  <dc:language>en-US</dc:language>
  <cp:lastModifiedBy>Chrissy</cp:lastModifiedBy>
  <dcterms:modified xsi:type="dcterms:W3CDTF">2008-07-01T22:31:16Z</dcterms:modified>
  <cp:revision>17</cp:revision>
  <dc:subject/>
  <dc:title>The Way They Learn By Cynthia Tobias</dc:title>
</cp:coreProperties>
</file>